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22D3-6C16-4F70-A1FF-C64BCC83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E82-FE4B-4B48-881E-780EFDB5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76A-D2D6-4376-93B4-6FC928F68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F46-8EA8-4F0E-A920-84833AFE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F6F2-9970-4A99-8AFA-4BF96683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87C-E6A0-4409-94C4-A54F0FA2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EE56-B51D-47E1-91DD-55BF9C86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9E55-EA9D-4EE8-ACAE-4DF42579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F38-1B4C-4107-9FB4-88EAB1E1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87B-03CA-4AFC-BA65-9B6D9D8F1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4492-8412-41DD-AB33-3C5237CB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765-4533-4C29-AB4F-CABAF1AF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3E43-E605-4C10-9598-5EE31A375D0B}" type="slidenum">
              <a:rPr b="0" lang="en-US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itle 1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42560" cy="1554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 algn="ctr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OPPORTUNITY !!!</a:t>
            </a:r>
            <a:endParaRPr b="0" lang="en-US" sz="3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monstrate your abil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 algn="ctr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ritical Think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 algn="ctr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blem Solving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Develop and learn new skill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cquire new inform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rengthen your CAN DO attitud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mazing "Feats"-  “… when you have the will" (2:36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859464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Grades 11 - 1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Mr. Bruce Guenther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HS Gifted Resource Room 42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759-6400 x 3148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rades 11 -1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r. Guenther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ptember 28, 2010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242560" cy="1554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an you follow directions?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Your dominant arm and hand should be kept immobile until leaving the Auditorium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llow the seating directions, on your handout, to find your assigned area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fter you are seated, you may enjoy your treat…when you get it opened. Please don’t leave any trash .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Title 1" descr=""/>
          <p:cNvPicPr/>
          <p:nvPr/>
        </p:nvPicPr>
        <p:blipFill>
          <a:blip r:embed="rId1"/>
          <a:stretch/>
        </p:blipFill>
        <p:spPr>
          <a:xfrm>
            <a:off x="450720" y="42840"/>
            <a:ext cx="8315280" cy="1554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Part of your current challenge inspired by: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Alternate Persona project - University of California (5:36)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How do you see challenges?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Obstacle ?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toppage / block 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- avoidance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- excuse generator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Book Antiqua"/>
              </a:rPr>
              <a:t>Opportunity!</a:t>
            </a:r>
            <a:endParaRPr b="0" lang="en-US" sz="26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Demonstrate your ability and attitud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13364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+ problem solving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+ work ethic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                                     + perseveranc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+communication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55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Develop and learn new skills, acquire new informat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457200" y="1692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Forty gifted students in Grades 11 -12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2 resumes: one General and one Focused (Jun 22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5 completed at least one resume (37.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5 resumes completed (31.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10 completed two required resumes (2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2 completed both resumes on time (.05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Need all outstanding resumes by next Tues 10/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ook Antiqua"/>
              </a:rPr>
              <a:t>2 hardcopies of each    - e-mailed version of each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rections on www.bhsgifted.wikispaces.com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itle 1" descr=""/>
          <p:cNvPicPr/>
          <p:nvPr/>
        </p:nvPicPr>
        <p:blipFill>
          <a:blip r:embed="rId1"/>
          <a:stretch/>
        </p:blipFill>
        <p:spPr>
          <a:xfrm>
            <a:off x="249120" y="268200"/>
            <a:ext cx="874872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oal is to help you to impro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ork with a purpose, not busy wor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ime, effort, purpose on my end - YOU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eminar Report Card – feedback on your en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hen you fail to meet deadlines or complete activity = more work for m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Generates frustr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ake the effort to demonstrate positive traits, not reveal a negativ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ach scheduled for 27 min/week (.0026%)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Will try to group and assign on info give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Approximately 10-12 students per day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Mrs. Spencer’s – Room 32, 1:29 – 1:56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ist to teachers so you can report directl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MMUNICATION!!!!!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flicts, reschedule, make-up activity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opic 1 – PSAT, SAT writing prompt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eriods 01,02,03,04,06,07,08;  Not 05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eed to know who is interested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hool work, reading, brain activ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O COMPUTER GAM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art paperwork for changes next week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ent Study Hall teache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yself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tudent Coordinator positions: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 – Advanced Research in Medicin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 – Gifted Open House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SC – Model United Natio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lan and implement activitie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elp with communication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8:16:26Z</dcterms:created>
  <dc:creator>End User</dc:creator>
  <dc:description/>
  <dc:language>en-US</dc:language>
  <cp:lastModifiedBy>End User</cp:lastModifiedBy>
  <dcterms:modified xsi:type="dcterms:W3CDTF">2010-09-28T12:57:12Z</dcterms:modified>
  <cp:revision>20</cp:revision>
  <dc:subject/>
  <dc:title>2010 -Gifted Seminar- 2011</dc:title>
</cp:coreProperties>
</file>